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953-AE3F-4FAA-B774-4112D766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7104-CC64-4164-ADE2-3DC5C3A9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3E46-3DF2-419F-BBE2-69AEF1D4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A194-DD67-4785-B332-9F471ED3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792-E9C3-436C-9229-9763E41E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A74-177D-4772-9AC5-BF5A576A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DCCF-79B4-4E2C-B9CA-73EA0E7E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8BF-92CA-47F2-BB07-2211E911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7FE-2E59-40F8-B860-D4F0DC7B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1C9-1EAB-4222-B842-880B29B1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329-3782-4825-BAFC-9D46E2F4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5B58-D1B8-4742-A5B9-27B43848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F32A-7706-4894-803D-2816DC2412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iority areas for consideration, analysis, and evaluation (cont.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stent distribution of costs and benef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ceability and food safe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pling at ports of ent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datory repor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reamline multi-agency regulatory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blic and private sector collabo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visory boards and committe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ertification of service provid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rtnering for risk manage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et Failure and Legislative Failu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rvice programs to facilitate efficient marke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gulatory policies/programs affect marke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ed here on market failur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also found instances of legislative fail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exists for continuing reexamination and periodic evaluation of policies and programs affecting food and agricultural market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GRAM CHALLENGES AND FUTURE OPPORTUNITIES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verview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marize findings and policy options identif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jor forces of change in the marketing syste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jor options identified for policy chang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orces leading to changes in marketing polici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ablishment and evolution of the various policies and progra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ces possibly necessitating policy or program adjustm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ket 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ec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rket Struc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olution of markets to coordinated and managed supply cha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ed with poultry industry vertical integ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t and central wholesale market disinteg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lobalization and international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de and aid iss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safety concerns and port-of-entry insp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native pests and pathogens, zoonotic diseases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rket Structure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national firms with progressively larger market shar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generation cooperatives; local food outle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conomies of siz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nterculture of smaller producers collabora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chn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rt insp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safety and trace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otechn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imal welf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pectations of Market Performan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/production ef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etition/allocative ef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ynamic ef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venience, health and consumer in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safe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ety vs.homogene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nmarket social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iority areas for consideration, analysis, and evalu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intaining market efficiency; structural bal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stablishing balance in contract marke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cal foo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toring USDA cooperative sup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ing federal marketing order authority for farm-level fresh produce safe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stency of policies across program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st-benefit and feasibility analysis prior to regulatory deci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stent distribution of costs and benef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cp:lastPrinted>2012-01-30T14:40:42Z</cp:lastPrinted>
  <dcterms:modified xsi:type="dcterms:W3CDTF">2012-06-05T20:20:15Z</dcterms:modified>
  <cp:revision>57</cp:revision>
  <dc:subject/>
  <dc:title>U.S. Policies Affecting Food and Agricultural Marketing</dc:title>
</cp:coreProperties>
</file>